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lick to move the slide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81C1-BC08-4534-9514-C263E2472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Quer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pwys w/ experimental evidence in yeastcyc: in database S. cerevisiae, search for Pathways where at least one element of CITATIONS contains the substring EV-EXP.  Columns for NAME and CI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0309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31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2140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2348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2140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2348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31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lick to edit the title text format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035000" indent="-228600">
              <a:spcBef>
                <a:spcPts val="60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3" marL="1378080" indent="-228600">
              <a:spcBef>
                <a:spcPts val="601"/>
              </a:spcBef>
              <a:buClr>
                <a:srgbClr val="ffcc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4" marL="1720800" indent="-228600">
              <a:spcBef>
                <a:spcPts val="601"/>
              </a:spcBef>
              <a:buClr>
                <a:srgbClr val="ffcc66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5" marL="17208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6" marL="17208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8d8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90720" y="652140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RI International Bioinformat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3760" y="6553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7E80-768E-48CE-9DD1-1F22EDCEB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238880" y="6477120"/>
            <a:ext cx="11430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biocyc.org/" TargetMode="External"/><Relationship Id="rId2" Type="http://schemas.openxmlformats.org/officeDocument/2006/relationships/hyperlink" Target="http://biocyc.org/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16761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Stone Serif"/>
              </a:rPr>
              <a:t>Recent Developments in Pathway Tools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ffcc66"/>
                </a:solidFill>
                <a:latin typeface="Stone Serif"/>
              </a:rPr>
              <a:t>GMOD Workshop November ‘07</a:t>
            </a:r>
            <a:endParaRPr b="1" i="1" lang="en-US" sz="36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33523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Suzanne Paley</a:t>
            </a: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ioinformatics Research Group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RI Internationa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ley@ai.sri.co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ioCyc.or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coCyc.or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Incremental PathoLogic (avail. in v.12.0)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Revised annotations may contain 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new gen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pdated gene properti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pdated functional descripti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urators don’t want to rebuild PGDB, don’t want to lose manual curation work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New command reads revised annotation file, compares w/ existing PGDB, presents summary of change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urator can: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pply a set of changes en masse (e.g. create all new genes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xamine each change in a group and decide individually which to apply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ave progress and return late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Generate report of changes to import into spreadshee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Incremental Update Summary Dialog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371600" y="955800"/>
            <a:ext cx="6858000" cy="5510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Assign Selected Reactions Dialog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599520" cy="7620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Rescoring Pathway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score Pathways after desired annotation changes have been mad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oftware remembers which pathways were inferred last tim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f a pathway has since been deleted, the software only considers it if there is now additional evidence for i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ummary lists: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reviously deleted pathways now w/ more evidenc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reviously inferred pathways that should now be prune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ewly inferred pathway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athways not in MetaCyc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r each list, curator can quickly check off pathways that should be delete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New Representation of Regulation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Previously, regulation represented idiosyncratically: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85080" indent="-2278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One representation for modulation of enzyme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85080" indent="-2278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ompletely different representation for regulation of transcription initiation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Now unified under single Regulation class w/ subclasse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his enables us to easily add support for new kinds of regulation, e.g.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85080" indent="-2278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Transcriptional attenuation (done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85080" indent="-2278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Regulation of translation by small RNAs (in progress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New tools for display and editing of new Regulation classe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3809880"/>
            <a:ext cx="8001000" cy="984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38080" y="5029200"/>
            <a:ext cx="8077320" cy="1257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New Representation of Electron Transport Reaction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96440" cy="23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lectron transport reactions now composite reactions composed of half-reacti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Left and right compounds inferred from constituent half-reacti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Direction of reaction inferred from standard reduction potential of half-reacti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New display and editing tools to support new representati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4191120" cy="2046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24280" y="3608280"/>
            <a:ext cx="4114800" cy="2719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Acknowledgement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eter Karp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arkus Krummenack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ario Latendress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urator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Ron Caspi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grid Kesel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lex Shear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arol Fulch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eifen Zhang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 Software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oLogic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redicts operons, metabolic network, pathway hole fillers, from genom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mputational creation of new Pathway/Genome Databas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/Genome Edito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istributed curation of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istributed object database system, interactive editing tool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/Genome Naviga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WW publishing of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Querying, visualization of pathways, chromosomes, oper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nalysis operati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athway visualization of gene-expression data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Global comparisons of metabolic network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"/>
          <p:cNvSpPr/>
          <p:nvPr/>
        </p:nvSpPr>
        <p:spPr>
          <a:xfrm>
            <a:off x="2658960" y="6095880"/>
            <a:ext cx="36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Bioinformatics 18:S225 20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 Software: PathoLogic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putational creation of new Pathway/Genome Databas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ransforms genome into Pathway Tools schema and layers inferred information above the genom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redicts oper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redicts metabolic network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redicts pathway hole filler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fers transport reac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58960" y="6095880"/>
            <a:ext cx="36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Bioinformatics 18:S225 20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 Software: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/Genome Editor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Interactively update PGDBs with graphical edito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upport geographically distributed teams of curators with object database system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Gene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rotein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Reaction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ompound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Operon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ublication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181480" y="990720"/>
            <a:ext cx="2156040" cy="2324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62520" y="4114800"/>
            <a:ext cx="3429000" cy="2522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143760" y="2743200"/>
            <a:ext cx="3000240" cy="2324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 Software: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/Genome Navigator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7717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Querying, visualization of pathways, chromosomes, oper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Analysis operati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athway visualization of gene-expression data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Global comparisons of metabolic network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mparative genomic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WWW publishing of PGDB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Desktop operati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342120" y="0"/>
            <a:ext cx="2801880" cy="2324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495680" y="4267080"/>
            <a:ext cx="4496040" cy="3372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952880" y="2341440"/>
            <a:ext cx="2970360" cy="1876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/Genome Databases on the Web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Pathway Tools can be used either  as a standalone curation/publishing platform or as a Pathways Module that lives side by side w/ existing DB using other GMOD application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BioCyc (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  <a:hlinkClick r:id="rId2"/>
              </a:rPr>
              <a:t>biocyc.org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): a collection of PGDBs for 370 organisms – these are available for adoption by groups that wish to curate them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523880" y="2514600"/>
            <a:ext cx="624852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New Development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avigato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dvanced Query Form and BioVel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mics Viewer now shows data on 3 different overview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thoLogic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axonomic pruning reduces false positive pathway prediction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cremental PathoLogic allows revised annotation to be imported into existing PGDB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ntolog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Revised schema for representing regul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dded representation of electron transport reaction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Advanced Query Capabilities and BioVelo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an query across organisms and datatyp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an either use structured form or more powerful BioVelo query languag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tructured form translates query to BioVelo, so you can copy, paste, modify if desire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Taxonomic Pruning in PathoLogic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istorically, PathoLogic very conservative, prefers to infer more pathways and let curator strip out false predictions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rowing numbers of pathway variants in MetaCyc mean potentially many false positive pathway predic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etaCyc pathways now tagged w/ Taxonomic-Range attribut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thways will not be predicted for an organism outside its taxonomic-range unless it has enzymes identified for all or almost all its step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ser can turn off taxonomic pruning if too many pathways being pruned ou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7:03:00Z</dcterms:created>
  <dc:creator>paley</dc:creator>
  <dc:description/>
  <dc:language>en-US</dc:language>
  <cp:lastModifiedBy>paley</cp:lastModifiedBy>
  <dcterms:modified xsi:type="dcterms:W3CDTF">2007-11-05T19:58:10Z</dcterms:modified>
  <cp:revision>6</cp:revision>
  <dc:subject/>
  <dc:title>Recent Developments in Pathway Tools  GMOD Workshop November ‘07</dc:title>
</cp:coreProperties>
</file>